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5AF-8B70-4B92-B409-603F3001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235-EEFD-43EC-9804-ECDED9F6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88C-FB39-4C2B-A708-3FB8B907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53A-7DFA-4E74-ACC8-2F50E357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D51-EFA9-4219-A8BD-04FCCF59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75A-B92D-43A0-8CC4-CA144FFC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193-0BC3-487A-A19E-5266BE75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4D6-8A35-4202-8664-B8235F00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808-ADBC-490C-9A54-0A07AFC9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D92-15B4-408A-9D1A-EE1855D5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9FD-49F7-478B-B2B1-C7F8AEBB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1B6-0846-4803-AB19-C056DAF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A310BB2B-1B0F-441C-8AE1-96F8B656C2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2976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.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206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46328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826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4158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 Secretariat Comisie pentru Protect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piluluii si anchete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6288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sitenţă şi sprijin pentru protecţia şi promovarea drepturilor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3" idx="2"/>
            <a:endCxn id="61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rot="5400000">
            <a:off x="5378760" y="3169440"/>
            <a:ext cx="633600" cy="1908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200400" y="5623200"/>
            <a:ext cx="18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54 /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1"/>
            <a:endCxn id="76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1"/>
            <a:endCxn id="78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60924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5" idx="1"/>
            <a:endCxn id="80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5" idx="1"/>
            <a:endCxn id="81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5" idx="1"/>
            <a:endCxn id="82" idx="1"/>
          </p:cNvCxnSpPr>
          <p:nvPr/>
        </p:nvCxnSpPr>
        <p:spPr>
          <a:xfrm flipH="1" rot="16200000">
            <a:off x="6476760" y="6019920"/>
            <a:ext cx="1181880" cy="191160"/>
          </a:xfrm>
          <a:prstGeom prst="bentConnector4">
            <a:avLst>
              <a:gd name="adj1" fmla="val 46160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20920" y="412056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3 / 1 /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5" idx="3"/>
            <a:endCxn id="86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5" idx="3"/>
            <a:endCxn id="87" idx="3"/>
          </p:cNvCxnSpPr>
          <p:nvPr/>
        </p:nvCxnSpPr>
        <p:spPr>
          <a:xfrm>
            <a:off x="14935320" y="2757240"/>
            <a:ext cx="304920" cy="1582200"/>
          </a:xfrm>
          <a:prstGeom prst="bentConnector3">
            <a:avLst>
              <a:gd name="adj1" fmla="val 1761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55" idx="3"/>
            <a:endCxn id="88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61 / 1 / 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9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4344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71 / 1 /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67240" y="7572240"/>
            <a:ext cx="137160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10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9 / 1 / 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56959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6 / 3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 pentru copilul repatriat,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354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rot="16200000">
            <a:off x="3352680" y="92962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438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35  / 1 3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9343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6 / 1 / 25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1036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2/ 1 / 2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05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rot="16200000">
            <a:off x="95058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0115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051560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63  / 1  / 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0109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98 / 1 / 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062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 Nr.1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37923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6 / 1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30200" y="8644320"/>
            <a:ext cx="24382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= </a:t>
            </a:r>
            <a:r>
              <a:rPr b="1" i="1" lang="en-US" sz="800" spc="-1" strike="noStrike">
                <a:solidFill>
                  <a:srgbClr val="cc3300"/>
                </a:solidFill>
                <a:latin typeface="Arial Narrow"/>
              </a:rPr>
              <a:t>15 posturi  ce vor fi preluate de cele 5 primarii, conform proiectelor PHAREi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1"/>
            <a:endCxn id="117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8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2120" y="5715360"/>
            <a:ext cx="1600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81532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de interventie in regim de urgenta   - Telefonul copilului  si telefonul adultulu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53" idx="2"/>
            <a:endCxn id="66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487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 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6730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rograme, Pproiecte, Strategii Integrare Europe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47" idx="1"/>
            <a:endCxn id="126" idx="1"/>
          </p:cNvCxnSpPr>
          <p:nvPr/>
        </p:nvCxnSpPr>
        <p:spPr>
          <a:xfrm flipV="1" rot="10800000">
            <a:off x="1218960" y="1939320"/>
            <a:ext cx="6515280" cy="101304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1219320" y="57942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0199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1629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33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90295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9336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44 / 1 /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4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8136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83200">
            <a:off x="11353320" y="94467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ilco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4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01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10680" y="6858000"/>
            <a:ext cx="4267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52520" y="57150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4771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1560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7000" y="53712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49520" y="761040"/>
            <a:ext cx="129528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Protectia Copilului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49520" y="213840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858000"/>
            <a:ext cx="838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876312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219960" y="6858000"/>
            <a:ext cx="990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3880" y="8610480"/>
            <a:ext cx="1905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3880" y="861048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3880" y="9067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49520" y="1134360"/>
            <a:ext cx="129528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 AMP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8551800"/>
            <a:ext cx="2666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apost temporar pt. copilul din s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1304928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Nr.2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9 / 1 /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2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9486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persoane virst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67 / 1 /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53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876312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24784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victime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iolentei i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0/ 1 / 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86104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00400" y="86104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5562720"/>
            <a:ext cx="1828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638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308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rventie in regim de urgenta pentru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972800" y="10134360"/>
            <a:ext cx="220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962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420720" y="556272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133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5345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criza si respi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9246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de primire in regim de urgent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448920" y="49528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29800" y="4952880"/>
            <a:ext cx="0" cy="18288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78168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8534520"/>
            <a:ext cx="1524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8534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8839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48360" y="6781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633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491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349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207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6120" y="30481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96280" y="3276720"/>
            <a:ext cx="3124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908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l de recuper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203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99820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21 / 1 /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744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276720"/>
            <a:ext cx="14475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10480" y="67816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848720" y="678168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5627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676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6858000"/>
            <a:ext cx="3429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6858000"/>
            <a:ext cx="1371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9872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 informatica in  domeniul asist.sociale si prot.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62542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49568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57200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4572000"/>
            <a:ext cx="0" cy="2057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14640" y="64771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24480" y="54864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9120" y="548640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9120" y="6705720"/>
            <a:ext cx="3809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92520" y="6705720"/>
            <a:ext cx="0" cy="1904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8800">
            <a:off x="11353680" y="8837640"/>
            <a:ext cx="1370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abilitare Gov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4 /  1 / 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02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859000" y="670572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82680" y="861048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87600" y="8610480"/>
            <a:ext cx="7632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63920" y="6705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2080" y="9149760"/>
            <a:ext cx="121932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***Centrele Milcoiu  si Govora vor functiona dupa inchidrea centrului Paus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Pausesti Magla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76 /  1 / 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8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268080" y="84582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68080" y="868680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77920" y="8686800"/>
            <a:ext cx="0" cy="914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725280" y="89917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725280" y="96012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7920" y="75924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parat Propriu    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877920" y="129240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sistenta Sociala -Adulti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49520" y="1680840"/>
            <a:ext cx="12189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ingrijitori la domiciliu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Win98</cp:lastModifiedBy>
  <cp:lastPrinted>2007-05-22T09:28:48Z</cp:lastPrinted>
  <dcterms:modified xsi:type="dcterms:W3CDTF">2007-05-22T12:36:45Z</dcterms:modified>
  <cp:revision>153</cp:revision>
  <dc:subject/>
  <dc:title>No Slide Title</dc:title>
</cp:coreProperties>
</file>